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6924-8569-4163-8CA7-23C0939E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EAFA-8B5E-4897-8701-E1740C39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27E-0AC5-47F7-9E17-F508659B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F09-CE2D-4F3A-8A1D-0C38917E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BE60-6578-4502-8EBA-C30E055C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0C6D-6D05-4760-8D2C-A0E5C512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2EF5-979C-41F1-A949-5D4F2F8A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F883-9853-4717-9975-028A0588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E6CE-2C1D-42DD-A756-C91054B2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8BED-BDD3-47CF-8D56-6D8E7B2D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BA4B-0E18-4D84-B0DD-BDB06E7F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F0CE-D13A-4DCA-AF3F-52FECAD1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F816-AEC4-47E1-B35A-E92E965B0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986280" y="262080"/>
            <a:ext cx="4762440" cy="3095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324000" y="4005360"/>
            <a:ext cx="302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comic"/>
              </a:rPr>
              <a:t>27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е любовт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й ме изкупи,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 Бог е любовта,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 Той ме люб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1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095560" cy="2733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4572000" y="404640"/>
            <a:ext cx="4248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66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Затова пак казвам: Бог е любовта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е любовта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й ме люб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580000" y="658800"/>
            <a:ext cx="3024360" cy="22687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692360" y="3300480"/>
            <a:ext cx="36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Аз бях в вериги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на греха смъртен;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аз бях в вериги, безпомощ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2997360"/>
            <a:ext cx="4249800" cy="30956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2370240" cy="17780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095560" cy="2733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572000" y="404640"/>
            <a:ext cx="4248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66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Затова пак казвам: Бог е любовта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е любовта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й ме люб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360" y="1071720"/>
            <a:ext cx="9144000" cy="4714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16360" y="1341360"/>
            <a:ext cx="41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прати Спаса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Изкупителя,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прати Спаса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Спасите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095560" cy="2733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572000" y="404640"/>
            <a:ext cx="4248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66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Затова пак казвам: Бог е любовта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е любовта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й ме люб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752720" cy="33163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24360" y="3749760"/>
            <a:ext cx="4873680" cy="2847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5219640" y="549360"/>
            <a:ext cx="35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й ме покани чрез Словото Си, Той ме покани чрез Духа Си.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095560" cy="2733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572000" y="404640"/>
            <a:ext cx="4248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cc66"/>
                </a:solidFill>
                <a:latin typeface="comic"/>
              </a:rPr>
              <a:t>Припев:</a:t>
            </a:r>
            <a:r>
              <a:rPr b="1" lang="bg-BG" sz="36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Затова пак казвам: Бог е любовта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Бог е любовта!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               </a:t>
            </a:r>
            <a:r>
              <a:rPr b="1" lang="bg-BG" sz="3600" spc="-1" strike="noStrike">
                <a:solidFill>
                  <a:srgbClr val="ffffff"/>
                </a:solidFill>
                <a:latin typeface="Monotype Corsiva"/>
              </a:rPr>
              <a:t>Той ме люб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6:36:39Z</dcterms:created>
  <dc:creator>TrifonTrifonow</dc:creator>
  <dc:description/>
  <dc:language>en-US</dc:language>
  <cp:lastModifiedBy>TrifonTrifonow</cp:lastModifiedBy>
  <dcterms:modified xsi:type="dcterms:W3CDTF">2005-12-08T07:05:51Z</dcterms:modified>
  <cp:revision>17</cp:revision>
  <dc:subject/>
  <dc:title>Slide 1</dc:title>
</cp:coreProperties>
</file>